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029B-529D-4A05-A974-8FF0974C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3AB-392F-404B-8F00-2BBC1A1C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A622C-7E39-4F4C-B367-37ED4560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EFB69-A928-4B4E-AFFF-74C767C5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69705-F47C-43E8-AC83-3DB233EA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C876E-CEC9-4783-81C3-1D220F25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0423E-E3C8-4280-A27B-A5003BF5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E2212-7C14-4880-9FEA-87CE2C1F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2DBB0-B91E-4764-B2D2-C5BFD301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A0223-B9B3-4F8F-AFFB-74CBFD88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9253A-FC9E-4D7B-BF36-F1841468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896E3-7485-4F54-BF2C-8E7D9F04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D01-0C8A-4596-92D8-61C0227C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1D7AF-B8B8-4130-93ED-DDC136B9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2EADC-933F-4C99-870A-531B6974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CAE7C-BE09-4A5D-8499-608033C6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C18E3-67E2-429A-A427-C4433701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73748-9D60-430A-9FBD-7D8A861B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7C38F-D47E-4F7C-A7F3-52F0C01A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F714E-5236-4CAD-B44B-6691808E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0C25B-A12F-4A38-906A-6447A687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B9C99-B859-459F-BAFA-04F29CB8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3208F-13C4-4C30-A713-359FA2B8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3C3F-0352-4393-99B8-B0E9B5E3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30A3C-1C50-4FAF-825B-B4E6DA34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88170-4E0E-4B4B-AB93-E078C5DB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6B6B5-9175-48CE-A7A7-2E74D412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71D10-BF3B-425E-AB2C-3014E1F7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7CA3C-0A6D-4C07-88B2-3FF54A89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24DA2-2522-4926-85DF-ED02B357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08C13-948A-4C6F-9A4C-18DBD41C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FF9DC-9596-493E-ADC1-535C2BBD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63C8A-AC49-4D1D-A2EA-C1AEF782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D84F0-AAAE-43C4-A9F2-B374AA01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C74D-BFE7-4ACC-B241-81DF4620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E4CC8-50E0-4AB1-924B-FDD6700A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07886-E8FB-44C3-9ED8-74F313A0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0E6E8-4F99-4E75-B922-CDEE70DA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47CD6-6FA1-4A90-B71A-F4E7E8DE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1C96C-8104-4BC9-A342-77B61EEA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4396F-1163-457A-8A15-CC61184F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BA3D6-8AA8-46C2-9512-B11D0173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2B9BB-C9B4-4580-B699-6E6D025D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2DDE4-B4B2-4E7B-9256-562D335F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A76AA-5791-4E32-B09D-29129068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9ACA-DC92-43E2-B4D1-83CC90EE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62447-F116-4A90-8108-FF2AC8C2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0BE05-80ED-4958-83E8-EC82E91A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84A6A-A174-4B1E-832A-567A1A98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FDACE-2049-4DFD-8F18-46DB062F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7BC6C-17E9-42AB-B6FD-BDAFF8A3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D9E2B9-8FA1-48C7-A064-3A70DBFD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FB76AB-D5F6-4832-8D73-A875713D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E87CF-285C-4F3D-B7A5-8C75626F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C38AE7-CB84-4B16-8FE5-D0BDC7DF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52E23-2BAE-4BD1-B019-C5525F39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057E-81E2-493F-92A0-A65FD85F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3CE0F-EBFF-4B4C-B1C8-DE907207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4E821-6007-4893-B532-1F253937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45B680-7401-45E5-B30B-8AD957AA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AE4BB-B00E-468A-8193-7BD8F860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BF3730-8C4F-4CCE-A427-D61721AA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BEE85-830D-4E03-B224-5A030EDA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3445F8-9CB4-48CE-87ED-B690AC1C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7B270-DB88-4691-BE2A-1DA80D55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11B819-09BE-4EC4-B14A-30836E24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49214F-1D35-4D60-92F7-74132BF6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9FF9-48D9-42A2-A8DE-CD78F241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02D358-5A35-4E42-9A34-3C703244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E6394-BDD2-4CCC-BFEF-CC6D7AB8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FDB09A-EED4-4376-B758-33729EFE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AB0FC6-BC35-40E4-A3AA-16BB369E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A02028-FE35-44E7-A52D-30D8FC72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FB05E9-4BD6-4CD9-A4A2-CF96441D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FAD886-4854-41B9-8FEF-75290C51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0957CC-59C1-46B3-B926-8C5D7AA4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EB7ECF-2194-43F8-97AA-2636817F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10549C-5636-49DB-9142-57A257E7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C48B-AF59-498A-B9BF-BF6DA7F0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1FA88A-AE23-44FC-8C5B-9F98EDAC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D4600A-BA4D-4145-8333-4D132750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AC3EAE-E7C0-4D5D-A7F1-B4429403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66AF97-7568-4AE6-9B6C-D51E2213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A6E1D-CC56-418F-9E70-235DD10B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A2B3FD-26C2-4568-AA02-E17C7E9E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BD745-96E7-4C9B-B84B-AEFDCD74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13F6B7-7D40-4BE4-A972-3D298242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ED7D2D-6CCA-4021-8E29-9DC123E1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4C12EC-A9D2-49D5-92D7-9DA75C6A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CEE5-F8C5-407A-8F47-38D2DA80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E122A8-3D4F-4FD1-8CCB-2A963B6B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1CD54E-0B15-40A7-9E8A-1AC2386E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E59764-B684-4080-94C9-FF97BB30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D457B1-7292-4C7E-A5FA-D9C55136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BD6161-00A7-430E-8843-DCBEFAB7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A350B6-2C3E-4910-A935-BA2A7D0C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78707D-C54A-4744-8EB0-8BA9CC7C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0E1FBC-38B4-4357-988D-9F1F773C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D13DFE-69ED-4803-8383-4E0524B4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7EA2C7-CBC2-4603-9CE6-68D675B0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DF49-FC8E-47AF-8D7F-486F33EF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B05D2D-DB30-466C-9017-20703197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EA609-2681-4A2F-910C-A0E5755C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4B8A52-8E93-4D0F-AAC2-295C23FD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67F710-C3F3-4348-A75B-5F27FF02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4B667F-58B2-4827-97E5-3C3A99A7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8C4E84-4B6D-49A5-9D72-8E2C9246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1FB423-5E08-453D-A043-4CF7B83C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9BD9AF-4801-4BF3-9469-1877F7DD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6DB976-1085-4EAB-A249-D011A557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B02E78-A362-4218-ACAE-4ECD7FFE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DF3-CFEC-491E-B568-72E96BEC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BE8C-6B09-423B-A514-7F0F76A8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86412D-3062-4434-8FC2-C861884F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C067A4-8D96-401A-AC21-EDFA9F67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0B9EF7-F602-4E37-BCE7-1F5EF14F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665D54-5863-41BD-B3FC-78B80C33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5C2CB5-DA12-43CD-B0E8-4836CCC5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286681-37C3-4704-87F7-3C4AB270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79D0BA-47F0-4420-A568-BC03A38C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EA424E-E2CC-409C-8085-FABD376A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1FFF84-5D2A-44E8-B8FE-68B41689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D3BD74-8943-4193-A17A-1D2FB42D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9EAB-15EE-4271-A8CF-29FF4D79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E96AF0-FC60-472F-AD7D-9157B0DB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99F71F-E1F0-470B-865E-C4CF7F98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C5F471-134C-44B2-B4D6-BA6A79DD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74B9EC-DA54-4262-AE77-09592A7F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B1CA84-7D55-49DF-B7A2-7C2CC534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939F97-DA1C-4B33-82AF-9C0A3499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82B72E-D62A-4509-A549-AB59F6C8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91D75A-0B3C-4E58-982C-4F0197A3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A2B842-2B84-4D70-A177-3871C340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45D355-81D4-43A0-A2FE-3B7F85C6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EFC9-A894-4FD4-8DAA-80427248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C501FB-6D6D-497A-AE15-2324014C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A1919B-037B-4A03-95B4-A8574309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13EDC3-5BC4-485C-A665-A0DFE2E4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F74AE8-F241-430A-B4C7-9F5C5FEF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2027E2-8E1C-4F2E-A074-13A86790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413A1A-AEDB-4C64-B5A7-DCF2A217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AC587A-837C-4152-831E-8DEBE579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2BE24F-436E-4607-A861-B7F46C90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D50699-DC0B-4B2B-9E55-B62F569E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83FC7D-64BA-4B4F-97CC-064F51E1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618F-1087-4C32-B783-E7B0E52B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12A0A8-49E4-4DB2-A5B9-BCAAD6F2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01162F-8F89-4481-834B-DA729193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110FDB-8CC6-4A69-AA7A-51C08152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95289B-0030-4698-B06C-A3DBCCD9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6AF5DA-BBC3-4DF6-BD65-CFA34ACA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908BA0-5B24-469E-AC1D-70F7FBB4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1CAAA2-1C6C-450B-AF5F-36CCB0BF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CFC43F-2605-43E6-AD09-EE3F5CE1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0BD225-A80C-4E8A-AF5A-3997128F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895F29-5874-455D-A59E-44BF6879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2E51-B792-45CB-B1E8-A588EC9D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814E5C-1DEC-4FC2-AB62-4F41DD4E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C824DC-02C9-4F94-B3A3-48B13847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772802-0586-4E95-B1C9-28AD746F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DE2769-3476-446C-A4FE-ED61F7CD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450D3E-037B-484B-971A-95B6831F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7E45C8-AF5B-4E99-B2BD-01512734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BF3B60-494D-4DCF-8D17-E205D0BF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4D7ABD-9501-4C49-9DD7-6F6F95DC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7B7F44-BE8D-4925-9EB2-1A8741DB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0B5826-15CD-44E1-BA1D-2F9063C4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E9CF7-A17E-41E0-8AF7-43A3477E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B0B934-98D4-42C4-A3DF-E0C35EBB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A98E6B-2DA6-496D-8284-4EEFB681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BD35B2-9A79-4D98-A170-8E0AF165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9DC807-BCA0-4F16-AED1-270F6392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788E55-B3CC-4725-95B1-B8BE989D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CE7EF4-9DB3-4430-A08C-4FBA8803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F530E1-BCC1-403A-8108-5F03FEC1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38BB55-659B-47D9-BADB-C7C3C9EA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702C06-4B5C-4477-AFBE-24ACBADC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8ED77F-FD21-4B7E-824E-3E64ACD9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E2511-72B2-4C8C-AF0E-3FDF9A28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66AA4A-31F6-4C5C-B032-8548AF7F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025547-473B-4C20-B753-82455487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8865C8-6A83-4C59-8743-9AD40658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3172B3-CDC6-422B-8A8A-466C0513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EF4DEB-BD37-4EE7-9303-BF6401B7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D87590-004D-42A5-8747-3FFA8B93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EB01B5-F012-48AD-B3A0-1432676A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2DC4D3-CB67-4D56-8A58-B090980D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8FAF17-554B-45BD-9492-976B0C9C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E5EDBB-F9E5-45B3-9928-AB2893F1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7A1F3-AFF2-4F7A-B763-2EF0FD8B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D74177-B765-4084-B71C-4D9D4792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968883-7AE5-482E-BBB7-6F93AA11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CC86E3-903D-44DF-B4A9-E240751F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D61E95-FBD0-43A3-9706-54037840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BC59AD-0BBB-4BDA-BF64-750D26BE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8F1703-EF1D-4CBD-A7F8-680E009B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E57471-862A-4CA9-A202-52E97532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2C9EA1-F1C8-49E2-8A1B-282F781D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4B3EA4-88D9-402F-A560-E2548138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B6CE89-C665-4CBB-AAD8-25690B2B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12C93-AD71-4C67-B77F-53312CE0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EE3338-A182-4902-8656-2234CD4E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3C3510-7209-4F60-B30D-039FB796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8E0E3C-18D1-4416-A7DA-5ED90280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556DCD-2BC4-49FE-9F19-0E29F71B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AA2FDB-922C-448C-B59A-00E8A937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551811-8235-4CB5-8A54-526D61A3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4DFAC4-CF47-4A72-8150-3753BB28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70932F-CDE6-49AF-94EE-DDF2789B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E42CD5-1A8C-46C1-A22A-3212FDF4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B3D25F-5F18-4640-A5C9-B8840FB9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9201F-BC0E-41CD-B03D-7F33AA04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67F560-BD8F-4AAA-9640-801110F0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3325AE-8451-43E0-8B41-4F46FC98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CB8B5E-F042-492F-9FAF-15E30C4B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B7A983-D028-4DAB-90B2-4F8E4C0C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AFD7D0-4EB9-45B4-9A54-D6C4A4C1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DAA2E2-D146-4126-83E9-0233D332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F1CD97-8E65-4549-9FB1-F9A53699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8A85F2-5C75-4494-87C1-F05B414F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5A176C-3615-4596-9B7C-D9308971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BCEC91-0273-4330-BDFA-08B140B1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DD6-C6CB-403D-84EF-76B3DED6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D7A7C-8CFD-438F-8239-414475C1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C0C6B3-B0F1-4907-BF79-00787E79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A25E77-5935-479C-9DE4-570AAAC1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20753C-16BE-458C-BB12-B5FD7E4B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F7A42F-CDBB-4908-B12F-0FF4FB20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65E938-C042-48C6-95D1-3EEB171B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5DA722-3C15-4261-89A5-983C7EA6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ACDDBF-6FF8-44A4-9AF8-10F24A85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511F56-D5A2-4A80-85B0-FFA94DBF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C51251-7CE3-44CA-8628-F4B80164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E478DA-2273-4A6D-96CB-B5AB3D6A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A9628-D50F-4A69-A941-55BAEF18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192785-7ADB-4F82-BAD7-A09F2F88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C979DF-B342-4B9E-9B19-AD467336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943F57-7466-493E-A6DC-65A155AC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B61AA7-2E01-4FE4-8796-2D454DA2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E97468-A497-4541-BC3B-EFF17419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18D68A-2981-4E64-A3CC-BF2A7B22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DF27BD-F717-45B6-9D3B-998693DC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EB01EB-8374-470B-8142-86C0B349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D2BE5E-E235-47C6-B96C-EA5906FE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18132D-024E-44FF-9CE9-C28B0D74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CD8AD-F91C-46B7-99D1-FF1299DB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BBBD4A-21CD-40E8-A7C6-EAF2EF2B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7EF227-22A6-40C3-A920-00B2D9C8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462626-E42D-47CE-BBD3-8BA4B1D3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56CD03-01BD-44B6-9289-AD7755C6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F17E49-DB29-4D3B-B464-1868DAA7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1406E6-4FF5-416A-99B0-E3ECE016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2C5AE9-5FA8-48F6-9C2A-DF96C1BA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02A75C-806C-4CD4-A414-9BC7B62E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EFA2EB-7CC7-4B77-A51F-2768B66C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FD7BBF-648A-429B-99ED-BB777B6C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AD143-C115-43B8-A477-9A1AEFCF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2E3529-5FB7-4705-A35E-BDF9B0AC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DDEF0E-7352-4062-BB2D-5583CB52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152DD0-5CA1-4819-B12F-4660B143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D671FD-5F28-4DD2-85C2-3D235F75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4C63C4-A5FE-4149-9501-0268C5FA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AB684B-BEF9-4292-80D4-6BC3AAA0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AF1FD7-8905-44B9-BAAC-3792FD5F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3AA81D-970E-456C-AE40-EAA3B757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DDBC62-568D-459F-8DBC-B996B46F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E2F846-748C-4F3D-9862-64DEA188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B6F8E-BB09-4C65-9957-01F663FA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46C9C9-CCAA-4D60-9E7C-EC6BC2FD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9ECEDD-04F4-4494-AA2E-6B0516CE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3A61F9-DEE3-4179-B67C-EE2804B2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38C90A-FDED-4C21-9FA6-7AAD1C66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F0E959-6895-42C6-B91D-C3D3D91D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DA0951-2144-4227-B4FF-980D0BAD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6E1CF9-1F1A-4172-BE96-8EB4B67D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84F727-602F-4807-A0A4-0D0124F8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C5C152-BE2D-4465-B414-AC9AD2CD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733E40-0423-4F9E-B9AE-C948CF97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B6E2F-9359-41FB-BC8B-17F32A52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8466AB-5DD4-4714-BEB5-6AFB428D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4ADBE5-6B2F-424E-B607-BB9BB8EF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D7DE7D-24E8-4B00-9AD4-BD41B7A3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D41798-6294-4AC2-8D38-58C86681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7D508B-B9F0-4637-9CA3-C5DAA208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1D909D-52B4-4A77-AB1B-7614DF95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FE9CDE-ECD3-4F5A-987C-11AF1DCA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407758-E879-46BC-9CAE-A96C8645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5C229B-4B94-4BDA-8F21-83749D3B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D80DB5-B53B-4058-A6AE-466FCEBE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898AA-28C1-41EE-B951-0196F235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9ED568-74CF-4D96-933A-9F767EBB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7B19E6-72F8-4501-9F24-5BD95B20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232E3E-00D6-4FBE-B18E-A037016C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FD0B70-FB06-4DE9-8DB2-2DBA80F9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CF6AEF-574E-469D-AE12-32A6C61E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2AAEC2-86F7-401D-A9C4-A66C6C4A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3D6D32-6701-47A6-8CF9-3F23C19D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3581B7-408D-499B-95E3-8DBB7990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3DE5DD-716E-4513-8612-F382C578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54D92C-D14D-4551-8382-EC8749F4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52E5B-E9D2-469B-BA10-24ACF033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FA746F-BC53-4692-8E6D-7F619D5A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3D8800-A361-4CA1-A9A5-0215FC2B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506DA5-6BAE-476E-9CEB-52035824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90575-47A4-44B4-AC33-5C81871B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5AB10-7B2C-45F7-A29D-DEE30616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2AF-EC78-406C-923D-4963E153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FAE2E-4956-4327-BC17-6ABA12FB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16EAA-8BEF-4765-BF4F-D38D1713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30C7A-5D67-477D-900D-61096ECA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0BD78-15AB-456E-AA63-05608EB4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181AA-8BDB-41DA-B5B6-FFEDFE7F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D2567-D421-4A28-B98A-663D0E46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8DBEB-F5F8-4D0B-A7A5-7870CE6B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3B88E-92C9-42EC-AB8C-2B104654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00ACD-1B0E-4932-9035-5F8E78D1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E513A-2910-43B4-8FAB-2D481C2F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714E-8AE9-4178-8756-E5FC2ADD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4FFE3-0520-484E-8538-D2FE98B0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86D77-53AA-40BB-B419-4BE3F0EC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C35A6-E898-4A64-B116-FDD6A4C1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495CE-F993-4D78-861E-A9A224C7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F5AE4-9A27-4A7F-BA2E-4AD0DCB7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85688-8916-48FB-A129-111DE581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32480-2690-4D4B-B07B-749AD1DB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2393C-4654-4D19-B86A-CCC8F079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3776E-B8A8-475D-AAE6-92D6553C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42C39-276F-410A-B441-12058C79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F5E-25CA-48C1-BE3A-70C1E0FD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C0DE8-CFCB-4218-AE6B-E593879F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665E4-A48F-476F-AB37-DF6DF970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C2F69-85F0-41FD-B27C-A869BFB9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F1EB5-85F5-44F2-83B5-604A7610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6F40E-AFB0-4A82-BC16-9EB88761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07798-FF49-4C49-8F15-FA467A83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B309E-87E2-4DEA-84B2-CD796856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8CB12-3729-461C-9059-E925CE04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396D5-2558-46FE-9E0C-CF60D77B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28028-2DCB-4AB1-9A23-C8D69CD5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F7DC-36CD-4897-A793-77758866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4091E-BA2C-444E-979D-63282A99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40D48-0DD9-47B1-929E-6B7E1E30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AD723-1E9A-4BA4-A5EB-8647BFF2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93125-BA6D-42A3-9766-0259BE2C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7F89C-56BC-45EC-8B0F-8C8AA870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BAFCD-6214-4E95-ACF3-0EB1D29F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8D25C-60F2-447E-B6ED-03571F7F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0A3CD-59D2-4C37-BE43-D97D4979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D3A6B-78EF-429C-9C5F-AC4F495D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C9278-A3A9-43AC-8C8A-DDECAE6D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5761-167B-401E-AEEC-90F3A7B9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2D888-BA95-465C-B460-729641C5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4817C-C5F5-4CD9-B99E-3744ACEC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15D85-1DD4-45F9-821D-B316588B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6409C-6712-4A64-A972-9740D370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16AE2-0605-49F1-BA5E-F2BBE896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D77D0-9BB4-4129-B864-3692E817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048B9-4158-4E57-A4F9-85BF6F6E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273F3-3991-405E-9252-8296047C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9808B-9C35-4B32-977D-400E9FF0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E2711-A848-4C04-B8CD-27643A2A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DE6-E702-4ACA-801F-A1B453E3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DE3C6-3344-4500-B7E9-D8E60CDA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F34D0-1124-4229-AEBB-91DCDF8A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864D4-8521-4CA0-9489-17CE6AB1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EDCBB-1896-48AB-8F7F-DF8AAB90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398C1-9B53-42AE-AD2F-1F388165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22DBA-3EBC-4301-9EDF-61B8B7A0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2F3DB-F210-46B6-914C-C79B1704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B6112-1ACA-414C-A23F-DBBCBEB0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5F90A-E524-424F-A6FD-703EA457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CC3EE-80F7-4C46-B30D-C9CEB932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C332-2D89-467E-9434-A35DC7C85F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CF65-0462-463C-B21A-C22F80FBE5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6D13-CA74-4BFF-853D-86DD1D833F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90B5-4F40-478D-933D-DBE8A6C24A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C590-6365-414D-AB5E-BB657F2485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5E3B-6B50-4D81-BD8F-233BFE8145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1283-57D8-4352-8C00-60AD1E828B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25A3-D6AB-40F5-BCF2-6366A2056D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C8FA-648E-443C-835D-BE09E3C9BB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E59B-8267-4193-A456-4F1A37CFCB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3718-801E-4575-8764-F093C0239B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CD99-BFE6-4309-8F5F-708140E007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E6D3-77B0-4F82-861A-A28A990C14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32A7-7568-4C65-89C3-F88B72AE9C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6F07-D174-4766-BBC2-3E5C07BBA0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6F31-74F5-4118-8160-3F31FEDDD2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9A9A-4FDA-4D5D-8EE2-AE17A7778F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EC0E-8BA1-4A7A-A6AE-8CE2AD186C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C89B-ECCF-4959-BD10-BBE492DBBA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50DA-EEFD-467C-801B-05547C3DA0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7AB2-8515-484D-AE21-FCAB48F4CC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44A1-199B-4A47-94A8-29BC3681B0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3362-36AA-4CDD-A4B3-D54738C637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CAA3-73F2-443B-85D7-260E9E8CAD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F879-B73D-4753-AB7C-49EBEE1449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13BE-EDC6-4544-B746-830DE8AFBF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F799-6FB5-4E63-A8B4-F7C550CD2E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56F3-2E22-4DEA-8293-EDF92EDFF1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5726-84FD-4E84-8634-0967FBB91A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3DFE-ABE3-4ACB-BD3C-BDF0C0C776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7896-AEC7-456A-BDA4-ACD3B90BE3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91D3-D4E0-4988-B6F7-4AE493852D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4AFD-5C1C-464B-80B3-23655BC47B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EC25-5BCF-43CF-9D23-6C6B695BE0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0902-E262-4755-93AD-569DA44F2B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1DD6-874F-4B15-9072-00ED23AF85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CCDE-C02D-4675-989E-E446007240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0CEF-3F2C-493D-86A7-6C4C4C2E41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377E-B607-49EC-9A98-A2CD515653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7306-4BF9-41DF-86BC-C82A75291A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E30D-CA23-41FD-97EA-5B352045A3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948D-2ED5-4E95-BF4B-0AF9E843C7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CF8B-DF77-4565-ADD6-AAAC8110A9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7836-66A0-4348-9003-F65A6B667A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E9EB-C28C-477E-88D4-6C2A569323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ED19-891D-49CA-B8D0-80E3698BF9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643D-0B20-4361-9E70-265E2788CA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C855-9C5C-41BA-BBD2-C8CBE86075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5DD6-B799-4B82-99F5-D1C0C5F957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7F09-A845-4250-AB42-93C45AE209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2009880" y="2986200"/>
            <a:ext cx="512424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79873" descr=""/>
          <p:cNvPicPr/>
          <p:nvPr/>
        </p:nvPicPr>
        <p:blipFill>
          <a:blip r:embed="rId1"/>
          <a:stretch/>
        </p:blipFill>
        <p:spPr>
          <a:xfrm>
            <a:off x="547560" y="1147680"/>
            <a:ext cx="8048880" cy="4562640"/>
          </a:xfrm>
          <a:prstGeom prst="rect">
            <a:avLst/>
          </a:prstGeom>
          <a:ln w="0">
            <a:noFill/>
          </a:ln>
        </p:spPr>
      </p:pic>
      <p:pic>
        <p:nvPicPr>
          <p:cNvPr id="1454" name="图片 79875" descr=""/>
          <p:cNvPicPr/>
          <p:nvPr/>
        </p:nvPicPr>
        <p:blipFill>
          <a:blip r:embed="rId2"/>
          <a:stretch/>
        </p:blipFill>
        <p:spPr>
          <a:xfrm>
            <a:off x="2336760" y="1776240"/>
            <a:ext cx="4848120" cy="3438720"/>
          </a:xfrm>
          <a:prstGeom prst="rect">
            <a:avLst/>
          </a:prstGeom>
          <a:ln w="0">
            <a:noFill/>
          </a:ln>
        </p:spPr>
      </p:pic>
      <p:sp>
        <p:nvSpPr>
          <p:cNvPr id="1455" name="矩形 79876"/>
          <p:cNvSpPr/>
          <p:nvPr/>
        </p:nvSpPr>
        <p:spPr>
          <a:xfrm>
            <a:off x="982800" y="5229360"/>
            <a:ext cx="2139840" cy="39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78849" descr=""/>
          <p:cNvPicPr/>
          <p:nvPr/>
        </p:nvPicPr>
        <p:blipFill>
          <a:blip r:embed="rId1"/>
          <a:stretch/>
        </p:blipFill>
        <p:spPr>
          <a:xfrm>
            <a:off x="461880" y="1314360"/>
            <a:ext cx="8220240" cy="4229280"/>
          </a:xfrm>
          <a:prstGeom prst="rect">
            <a:avLst/>
          </a:prstGeom>
          <a:ln w="0">
            <a:noFill/>
          </a:ln>
        </p:spPr>
      </p:pic>
      <p:pic>
        <p:nvPicPr>
          <p:cNvPr id="1457" name="图片 78850" descr=""/>
          <p:cNvPicPr/>
          <p:nvPr/>
        </p:nvPicPr>
        <p:blipFill>
          <a:blip r:embed="rId2"/>
          <a:stretch/>
        </p:blipFill>
        <p:spPr>
          <a:xfrm>
            <a:off x="3564000" y="3049560"/>
            <a:ext cx="4867200" cy="2390760"/>
          </a:xfrm>
          <a:prstGeom prst="rect">
            <a:avLst/>
          </a:prstGeom>
          <a:ln w="0">
            <a:noFill/>
          </a:ln>
        </p:spPr>
      </p:pic>
      <p:sp>
        <p:nvSpPr>
          <p:cNvPr id="1458" name="矩形 78851"/>
          <p:cNvSpPr/>
          <p:nvPr/>
        </p:nvSpPr>
        <p:spPr>
          <a:xfrm>
            <a:off x="971640" y="2924280"/>
            <a:ext cx="21398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77825" descr=""/>
          <p:cNvPicPr/>
          <p:nvPr/>
        </p:nvPicPr>
        <p:blipFill>
          <a:blip r:embed="rId1"/>
          <a:stretch/>
        </p:blipFill>
        <p:spPr>
          <a:xfrm>
            <a:off x="500040" y="1300320"/>
            <a:ext cx="8143920" cy="4257360"/>
          </a:xfrm>
          <a:prstGeom prst="rect">
            <a:avLst/>
          </a:prstGeom>
          <a:ln w="0">
            <a:noFill/>
          </a:ln>
        </p:spPr>
      </p:pic>
      <p:pic>
        <p:nvPicPr>
          <p:cNvPr id="1460" name="图片 77826" descr=""/>
          <p:cNvPicPr/>
          <p:nvPr/>
        </p:nvPicPr>
        <p:blipFill>
          <a:blip r:embed="rId2"/>
          <a:stretch/>
        </p:blipFill>
        <p:spPr>
          <a:xfrm>
            <a:off x="3524400" y="2944800"/>
            <a:ext cx="2895480" cy="2571840"/>
          </a:xfrm>
          <a:prstGeom prst="rect">
            <a:avLst/>
          </a:prstGeom>
          <a:ln w="0">
            <a:noFill/>
          </a:ln>
        </p:spPr>
      </p:pic>
      <p:sp>
        <p:nvSpPr>
          <p:cNvPr id="1461" name="矩形 77827"/>
          <p:cNvSpPr/>
          <p:nvPr/>
        </p:nvSpPr>
        <p:spPr>
          <a:xfrm>
            <a:off x="971640" y="2997360"/>
            <a:ext cx="2139840" cy="39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76801" descr=""/>
          <p:cNvPicPr/>
          <p:nvPr/>
        </p:nvPicPr>
        <p:blipFill>
          <a:blip r:embed="rId1"/>
          <a:stretch/>
        </p:blipFill>
        <p:spPr>
          <a:xfrm>
            <a:off x="528480" y="1471680"/>
            <a:ext cx="8087040" cy="3914640"/>
          </a:xfrm>
          <a:prstGeom prst="rect">
            <a:avLst/>
          </a:prstGeom>
          <a:ln w="0">
            <a:noFill/>
          </a:ln>
        </p:spPr>
      </p:pic>
      <p:pic>
        <p:nvPicPr>
          <p:cNvPr id="1463" name="图片 76802" descr=""/>
          <p:cNvPicPr/>
          <p:nvPr/>
        </p:nvPicPr>
        <p:blipFill>
          <a:blip r:embed="rId2"/>
          <a:stretch/>
        </p:blipFill>
        <p:spPr>
          <a:xfrm>
            <a:off x="3679920" y="2476440"/>
            <a:ext cx="2371680" cy="2828880"/>
          </a:xfrm>
          <a:prstGeom prst="rect">
            <a:avLst/>
          </a:prstGeom>
          <a:ln w="0">
            <a:noFill/>
          </a:ln>
        </p:spPr>
      </p:pic>
      <p:sp>
        <p:nvSpPr>
          <p:cNvPr id="1464" name="矩形 76803"/>
          <p:cNvSpPr/>
          <p:nvPr/>
        </p:nvSpPr>
        <p:spPr>
          <a:xfrm>
            <a:off x="1187280" y="2503440"/>
            <a:ext cx="21402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89089" descr=""/>
          <p:cNvPicPr/>
          <p:nvPr/>
        </p:nvPicPr>
        <p:blipFill>
          <a:blip r:embed="rId1"/>
          <a:stretch/>
        </p:blipFill>
        <p:spPr>
          <a:xfrm>
            <a:off x="542880" y="1386000"/>
            <a:ext cx="805824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90113" descr=""/>
          <p:cNvPicPr/>
          <p:nvPr/>
        </p:nvPicPr>
        <p:blipFill>
          <a:blip r:embed="rId1"/>
          <a:stretch/>
        </p:blipFill>
        <p:spPr>
          <a:xfrm>
            <a:off x="1852560" y="2162160"/>
            <a:ext cx="5438880" cy="2533680"/>
          </a:xfrm>
          <a:prstGeom prst="rect">
            <a:avLst/>
          </a:prstGeom>
          <a:ln w="0">
            <a:noFill/>
          </a:ln>
        </p:spPr>
      </p:pic>
      <p:pic>
        <p:nvPicPr>
          <p:cNvPr id="1467" name="图片 90115" descr=""/>
          <p:cNvPicPr/>
          <p:nvPr/>
        </p:nvPicPr>
        <p:blipFill>
          <a:blip r:embed="rId2"/>
          <a:stretch/>
        </p:blipFill>
        <p:spPr>
          <a:xfrm>
            <a:off x="4495680" y="2111400"/>
            <a:ext cx="2619360" cy="2419200"/>
          </a:xfrm>
          <a:prstGeom prst="rect">
            <a:avLst/>
          </a:prstGeom>
          <a:ln w="0">
            <a:noFill/>
          </a:ln>
        </p:spPr>
      </p:pic>
      <p:sp>
        <p:nvSpPr>
          <p:cNvPr id="1468" name="矩形 90116"/>
          <p:cNvSpPr/>
          <p:nvPr/>
        </p:nvSpPr>
        <p:spPr>
          <a:xfrm>
            <a:off x="1835280" y="2205000"/>
            <a:ext cx="21398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91137" descr=""/>
          <p:cNvPicPr/>
          <p:nvPr/>
        </p:nvPicPr>
        <p:blipFill>
          <a:blip r:embed="rId1"/>
          <a:stretch/>
        </p:blipFill>
        <p:spPr>
          <a:xfrm>
            <a:off x="561960" y="1181160"/>
            <a:ext cx="8020080" cy="4495680"/>
          </a:xfrm>
          <a:prstGeom prst="rect">
            <a:avLst/>
          </a:prstGeom>
          <a:ln w="0">
            <a:noFill/>
          </a:ln>
        </p:spPr>
      </p:pic>
      <p:pic>
        <p:nvPicPr>
          <p:cNvPr id="1470" name="图片 91138" descr=""/>
          <p:cNvPicPr/>
          <p:nvPr/>
        </p:nvPicPr>
        <p:blipFill>
          <a:blip r:embed="rId2"/>
          <a:stretch/>
        </p:blipFill>
        <p:spPr>
          <a:xfrm>
            <a:off x="3679920" y="3094200"/>
            <a:ext cx="2552760" cy="2495520"/>
          </a:xfrm>
          <a:prstGeom prst="rect">
            <a:avLst/>
          </a:prstGeom>
          <a:ln w="0">
            <a:noFill/>
          </a:ln>
        </p:spPr>
      </p:pic>
      <p:sp>
        <p:nvSpPr>
          <p:cNvPr id="1471" name="矩形 91139"/>
          <p:cNvSpPr/>
          <p:nvPr/>
        </p:nvSpPr>
        <p:spPr>
          <a:xfrm>
            <a:off x="1116000" y="3284640"/>
            <a:ext cx="21398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92161" descr=""/>
          <p:cNvPicPr/>
          <p:nvPr/>
        </p:nvPicPr>
        <p:blipFill>
          <a:blip r:embed="rId1"/>
          <a:stretch/>
        </p:blipFill>
        <p:spPr>
          <a:xfrm>
            <a:off x="533520" y="1481040"/>
            <a:ext cx="8076960" cy="3895920"/>
          </a:xfrm>
          <a:prstGeom prst="rect">
            <a:avLst/>
          </a:prstGeom>
          <a:ln w="0">
            <a:noFill/>
          </a:ln>
        </p:spPr>
      </p:pic>
      <p:pic>
        <p:nvPicPr>
          <p:cNvPr id="1473" name="图片 92162" descr=""/>
          <p:cNvPicPr/>
          <p:nvPr/>
        </p:nvPicPr>
        <p:blipFill>
          <a:blip r:embed="rId2"/>
          <a:stretch/>
        </p:blipFill>
        <p:spPr>
          <a:xfrm>
            <a:off x="3662280" y="2421000"/>
            <a:ext cx="2781360" cy="2876400"/>
          </a:xfrm>
          <a:prstGeom prst="rect">
            <a:avLst/>
          </a:prstGeom>
          <a:ln w="0">
            <a:noFill/>
          </a:ln>
        </p:spPr>
      </p:pic>
      <p:sp>
        <p:nvSpPr>
          <p:cNvPr id="1474" name="矩形 92163"/>
          <p:cNvSpPr/>
          <p:nvPr/>
        </p:nvSpPr>
        <p:spPr>
          <a:xfrm>
            <a:off x="1116000" y="2565360"/>
            <a:ext cx="21398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93185" descr=""/>
          <p:cNvPicPr/>
          <p:nvPr/>
        </p:nvPicPr>
        <p:blipFill>
          <a:blip r:embed="rId1"/>
          <a:stretch/>
        </p:blipFill>
        <p:spPr>
          <a:xfrm>
            <a:off x="490680" y="1295280"/>
            <a:ext cx="8162640" cy="4267440"/>
          </a:xfrm>
          <a:prstGeom prst="rect">
            <a:avLst/>
          </a:prstGeom>
          <a:ln w="0">
            <a:noFill/>
          </a:ln>
        </p:spPr>
      </p:pic>
      <p:pic>
        <p:nvPicPr>
          <p:cNvPr id="1476" name="图片 93187" descr=""/>
          <p:cNvPicPr/>
          <p:nvPr/>
        </p:nvPicPr>
        <p:blipFill>
          <a:blip r:embed="rId2"/>
          <a:stretch/>
        </p:blipFill>
        <p:spPr>
          <a:xfrm>
            <a:off x="3701880" y="2865600"/>
            <a:ext cx="3753000" cy="2647800"/>
          </a:xfrm>
          <a:prstGeom prst="rect">
            <a:avLst/>
          </a:prstGeom>
          <a:ln w="0">
            <a:noFill/>
          </a:ln>
        </p:spPr>
      </p:pic>
      <p:sp>
        <p:nvSpPr>
          <p:cNvPr id="1477" name="矩形 93188"/>
          <p:cNvSpPr/>
          <p:nvPr/>
        </p:nvSpPr>
        <p:spPr>
          <a:xfrm>
            <a:off x="1116000" y="2901960"/>
            <a:ext cx="21398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94209" descr=""/>
          <p:cNvPicPr/>
          <p:nvPr/>
        </p:nvPicPr>
        <p:blipFill>
          <a:blip r:embed="rId1"/>
          <a:stretch/>
        </p:blipFill>
        <p:spPr>
          <a:xfrm>
            <a:off x="485640" y="743040"/>
            <a:ext cx="8172720" cy="5371920"/>
          </a:xfrm>
          <a:prstGeom prst="rect">
            <a:avLst/>
          </a:prstGeom>
          <a:ln w="0">
            <a:noFill/>
          </a:ln>
        </p:spPr>
      </p:pic>
      <p:pic>
        <p:nvPicPr>
          <p:cNvPr id="1479" name="图片 94211" descr=""/>
          <p:cNvPicPr/>
          <p:nvPr/>
        </p:nvPicPr>
        <p:blipFill>
          <a:blip r:embed="rId2"/>
          <a:stretch/>
        </p:blipFill>
        <p:spPr>
          <a:xfrm>
            <a:off x="3668760" y="3552840"/>
            <a:ext cx="2666880" cy="2543040"/>
          </a:xfrm>
          <a:prstGeom prst="rect">
            <a:avLst/>
          </a:prstGeom>
          <a:ln w="0">
            <a:noFill/>
          </a:ln>
        </p:spPr>
      </p:pic>
      <p:sp>
        <p:nvSpPr>
          <p:cNvPr id="1480" name="矩形 94212"/>
          <p:cNvSpPr/>
          <p:nvPr/>
        </p:nvSpPr>
        <p:spPr>
          <a:xfrm>
            <a:off x="1116000" y="3573360"/>
            <a:ext cx="21398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6" descr=""/>
          <p:cNvPicPr/>
          <p:nvPr/>
        </p:nvPicPr>
        <p:blipFill>
          <a:blip r:embed="rId1"/>
          <a:stretch/>
        </p:blipFill>
        <p:spPr>
          <a:xfrm>
            <a:off x="519120" y="1033560"/>
            <a:ext cx="810576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95233" descr=""/>
          <p:cNvPicPr/>
          <p:nvPr/>
        </p:nvPicPr>
        <p:blipFill>
          <a:blip r:embed="rId1"/>
          <a:stretch/>
        </p:blipFill>
        <p:spPr>
          <a:xfrm>
            <a:off x="490680" y="971640"/>
            <a:ext cx="8162640" cy="4914720"/>
          </a:xfrm>
          <a:prstGeom prst="rect">
            <a:avLst/>
          </a:prstGeom>
          <a:ln w="0">
            <a:noFill/>
          </a:ln>
        </p:spPr>
      </p:pic>
      <p:pic>
        <p:nvPicPr>
          <p:cNvPr id="1482" name="图片 95234" descr=""/>
          <p:cNvPicPr/>
          <p:nvPr/>
        </p:nvPicPr>
        <p:blipFill>
          <a:blip r:embed="rId2"/>
          <a:stretch/>
        </p:blipFill>
        <p:spPr>
          <a:xfrm>
            <a:off x="3592440" y="3112920"/>
            <a:ext cx="3838680" cy="2695680"/>
          </a:xfrm>
          <a:prstGeom prst="rect">
            <a:avLst/>
          </a:prstGeom>
          <a:ln w="0">
            <a:noFill/>
          </a:ln>
        </p:spPr>
      </p:pic>
      <p:sp>
        <p:nvSpPr>
          <p:cNvPr id="1483" name="矩形 95235"/>
          <p:cNvSpPr/>
          <p:nvPr/>
        </p:nvSpPr>
        <p:spPr>
          <a:xfrm>
            <a:off x="1116000" y="3141720"/>
            <a:ext cx="21398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图片 96257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105760" cy="5924520"/>
          </a:xfrm>
          <a:prstGeom prst="rect">
            <a:avLst/>
          </a:prstGeom>
          <a:ln w="0">
            <a:noFill/>
          </a:ln>
        </p:spPr>
      </p:pic>
      <p:pic>
        <p:nvPicPr>
          <p:cNvPr id="1485" name="图片 96258" descr=""/>
          <p:cNvPicPr/>
          <p:nvPr/>
        </p:nvPicPr>
        <p:blipFill>
          <a:blip r:embed="rId2"/>
          <a:stretch/>
        </p:blipFill>
        <p:spPr>
          <a:xfrm>
            <a:off x="3613320" y="3768840"/>
            <a:ext cx="3371760" cy="2800080"/>
          </a:xfrm>
          <a:prstGeom prst="rect">
            <a:avLst/>
          </a:prstGeom>
          <a:ln w="0">
            <a:noFill/>
          </a:ln>
        </p:spPr>
      </p:pic>
      <p:sp>
        <p:nvSpPr>
          <p:cNvPr id="1486" name="矩形 96259"/>
          <p:cNvSpPr/>
          <p:nvPr/>
        </p:nvSpPr>
        <p:spPr>
          <a:xfrm>
            <a:off x="1116000" y="3933720"/>
            <a:ext cx="21398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87041" descr=""/>
          <p:cNvPicPr/>
          <p:nvPr/>
        </p:nvPicPr>
        <p:blipFill>
          <a:blip r:embed="rId1"/>
          <a:stretch/>
        </p:blipFill>
        <p:spPr>
          <a:xfrm>
            <a:off x="438120" y="2090880"/>
            <a:ext cx="826776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86017" descr=""/>
          <p:cNvPicPr/>
          <p:nvPr/>
        </p:nvPicPr>
        <p:blipFill>
          <a:blip r:embed="rId1"/>
          <a:stretch/>
        </p:blipFill>
        <p:spPr>
          <a:xfrm>
            <a:off x="468360" y="676440"/>
            <a:ext cx="8238960" cy="6181560"/>
          </a:xfrm>
          <a:prstGeom prst="rect">
            <a:avLst/>
          </a:prstGeom>
          <a:ln w="0">
            <a:noFill/>
          </a:ln>
        </p:spPr>
      </p:pic>
      <p:pic>
        <p:nvPicPr>
          <p:cNvPr id="1436" name="图片 86019" descr=""/>
          <p:cNvPicPr/>
          <p:nvPr/>
        </p:nvPicPr>
        <p:blipFill>
          <a:blip r:embed="rId2"/>
          <a:stretch/>
        </p:blipFill>
        <p:spPr>
          <a:xfrm>
            <a:off x="3448080" y="4127400"/>
            <a:ext cx="2800440" cy="2686320"/>
          </a:xfrm>
          <a:prstGeom prst="rect">
            <a:avLst/>
          </a:prstGeom>
          <a:ln w="0">
            <a:noFill/>
          </a:ln>
        </p:spPr>
      </p:pic>
      <p:sp>
        <p:nvSpPr>
          <p:cNvPr id="1437" name="矩形 86020"/>
          <p:cNvSpPr/>
          <p:nvPr/>
        </p:nvSpPr>
        <p:spPr>
          <a:xfrm>
            <a:off x="971640" y="4149720"/>
            <a:ext cx="21398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84993" descr=""/>
          <p:cNvPicPr/>
          <p:nvPr/>
        </p:nvPicPr>
        <p:blipFill>
          <a:blip r:embed="rId1"/>
          <a:stretch/>
        </p:blipFill>
        <p:spPr>
          <a:xfrm>
            <a:off x="504720" y="1281240"/>
            <a:ext cx="8134560" cy="4295520"/>
          </a:xfrm>
          <a:prstGeom prst="rect">
            <a:avLst/>
          </a:prstGeom>
          <a:ln w="0">
            <a:noFill/>
          </a:ln>
        </p:spPr>
      </p:pic>
      <p:pic>
        <p:nvPicPr>
          <p:cNvPr id="1439" name="图片 84994" descr=""/>
          <p:cNvPicPr/>
          <p:nvPr/>
        </p:nvPicPr>
        <p:blipFill>
          <a:blip r:embed="rId2"/>
          <a:stretch/>
        </p:blipFill>
        <p:spPr>
          <a:xfrm>
            <a:off x="3492360" y="3154320"/>
            <a:ext cx="3457800" cy="2400480"/>
          </a:xfrm>
          <a:prstGeom prst="rect">
            <a:avLst/>
          </a:prstGeom>
          <a:ln w="0">
            <a:noFill/>
          </a:ln>
        </p:spPr>
      </p:pic>
      <p:sp>
        <p:nvSpPr>
          <p:cNvPr id="1440" name="矩形 84995"/>
          <p:cNvSpPr/>
          <p:nvPr/>
        </p:nvSpPr>
        <p:spPr>
          <a:xfrm>
            <a:off x="971640" y="3068640"/>
            <a:ext cx="21398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83969" descr=""/>
          <p:cNvPicPr/>
          <p:nvPr/>
        </p:nvPicPr>
        <p:blipFill>
          <a:blip r:embed="rId1"/>
          <a:stretch/>
        </p:blipFill>
        <p:spPr>
          <a:xfrm>
            <a:off x="547560" y="1490760"/>
            <a:ext cx="8048880" cy="3876480"/>
          </a:xfrm>
          <a:prstGeom prst="rect">
            <a:avLst/>
          </a:prstGeom>
          <a:ln w="0">
            <a:noFill/>
          </a:ln>
        </p:spPr>
      </p:pic>
      <p:pic>
        <p:nvPicPr>
          <p:cNvPr id="1442" name="图片 83970" descr=""/>
          <p:cNvPicPr/>
          <p:nvPr/>
        </p:nvPicPr>
        <p:blipFill>
          <a:blip r:embed="rId2"/>
          <a:stretch/>
        </p:blipFill>
        <p:spPr>
          <a:xfrm>
            <a:off x="3398760" y="3187800"/>
            <a:ext cx="3791160" cy="2085840"/>
          </a:xfrm>
          <a:prstGeom prst="rect">
            <a:avLst/>
          </a:prstGeom>
          <a:ln w="0">
            <a:noFill/>
          </a:ln>
        </p:spPr>
      </p:pic>
      <p:sp>
        <p:nvSpPr>
          <p:cNvPr id="1443" name="矩形 83971"/>
          <p:cNvSpPr/>
          <p:nvPr/>
        </p:nvSpPr>
        <p:spPr>
          <a:xfrm>
            <a:off x="900000" y="3213000"/>
            <a:ext cx="21402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82945" descr=""/>
          <p:cNvPicPr/>
          <p:nvPr/>
        </p:nvPicPr>
        <p:blipFill>
          <a:blip r:embed="rId1"/>
          <a:stretch/>
        </p:blipFill>
        <p:spPr>
          <a:xfrm>
            <a:off x="515880" y="1238400"/>
            <a:ext cx="8134560" cy="4381200"/>
          </a:xfrm>
          <a:prstGeom prst="rect">
            <a:avLst/>
          </a:prstGeom>
          <a:ln w="0">
            <a:noFill/>
          </a:ln>
        </p:spPr>
      </p:pic>
      <p:pic>
        <p:nvPicPr>
          <p:cNvPr id="1445" name="图片 82946" descr=""/>
          <p:cNvPicPr/>
          <p:nvPr/>
        </p:nvPicPr>
        <p:blipFill>
          <a:blip r:embed="rId2"/>
          <a:stretch/>
        </p:blipFill>
        <p:spPr>
          <a:xfrm>
            <a:off x="3513240" y="2860560"/>
            <a:ext cx="2295360" cy="2648160"/>
          </a:xfrm>
          <a:prstGeom prst="rect">
            <a:avLst/>
          </a:prstGeom>
          <a:ln w="0">
            <a:noFill/>
          </a:ln>
        </p:spPr>
      </p:pic>
      <p:sp>
        <p:nvSpPr>
          <p:cNvPr id="1446" name="矩形 82947"/>
          <p:cNvSpPr/>
          <p:nvPr/>
        </p:nvSpPr>
        <p:spPr>
          <a:xfrm>
            <a:off x="971640" y="2852640"/>
            <a:ext cx="21398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81921" descr=""/>
          <p:cNvPicPr/>
          <p:nvPr/>
        </p:nvPicPr>
        <p:blipFill>
          <a:blip r:embed="rId1"/>
          <a:stretch/>
        </p:blipFill>
        <p:spPr>
          <a:xfrm>
            <a:off x="476280" y="1266840"/>
            <a:ext cx="8191440" cy="4324320"/>
          </a:xfrm>
          <a:prstGeom prst="rect">
            <a:avLst/>
          </a:prstGeom>
          <a:ln w="0">
            <a:noFill/>
          </a:ln>
        </p:spPr>
      </p:pic>
      <p:pic>
        <p:nvPicPr>
          <p:cNvPr id="1448" name="图片 81923" descr=""/>
          <p:cNvPicPr/>
          <p:nvPr/>
        </p:nvPicPr>
        <p:blipFill>
          <a:blip r:embed="rId2"/>
          <a:stretch/>
        </p:blipFill>
        <p:spPr>
          <a:xfrm>
            <a:off x="3176640" y="2995560"/>
            <a:ext cx="3114720" cy="2476440"/>
          </a:xfrm>
          <a:prstGeom prst="rect">
            <a:avLst/>
          </a:prstGeom>
          <a:ln w="0">
            <a:noFill/>
          </a:ln>
        </p:spPr>
      </p:pic>
      <p:sp>
        <p:nvSpPr>
          <p:cNvPr id="1449" name="矩形 81924"/>
          <p:cNvSpPr/>
          <p:nvPr/>
        </p:nvSpPr>
        <p:spPr>
          <a:xfrm>
            <a:off x="971640" y="2997360"/>
            <a:ext cx="2139840" cy="39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80897" descr=""/>
          <p:cNvPicPr/>
          <p:nvPr/>
        </p:nvPicPr>
        <p:blipFill>
          <a:blip r:embed="rId1"/>
          <a:stretch/>
        </p:blipFill>
        <p:spPr>
          <a:xfrm>
            <a:off x="490680" y="1247760"/>
            <a:ext cx="8162640" cy="4362480"/>
          </a:xfrm>
          <a:prstGeom prst="rect">
            <a:avLst/>
          </a:prstGeom>
          <a:ln w="0">
            <a:noFill/>
          </a:ln>
        </p:spPr>
      </p:pic>
      <p:pic>
        <p:nvPicPr>
          <p:cNvPr id="1451" name="图片 80898" descr=""/>
          <p:cNvPicPr/>
          <p:nvPr/>
        </p:nvPicPr>
        <p:blipFill>
          <a:blip r:embed="rId2"/>
          <a:stretch/>
        </p:blipFill>
        <p:spPr>
          <a:xfrm>
            <a:off x="3448080" y="2935440"/>
            <a:ext cx="4238640" cy="2733480"/>
          </a:xfrm>
          <a:prstGeom prst="rect">
            <a:avLst/>
          </a:prstGeom>
          <a:ln w="0">
            <a:noFill/>
          </a:ln>
        </p:spPr>
      </p:pic>
      <p:sp>
        <p:nvSpPr>
          <p:cNvPr id="1452" name="矩形 80899"/>
          <p:cNvSpPr/>
          <p:nvPr/>
        </p:nvSpPr>
        <p:spPr>
          <a:xfrm>
            <a:off x="971640" y="2852640"/>
            <a:ext cx="21398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47:02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